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17EAB-C982-4FC6-B569-959E769BE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915B6-1A24-4067-97BE-E72C2A7DE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5BCE0-8DF0-4FA6-99E7-F62447B4B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E3562-3D1A-4905-A6A1-3B4CE2E51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CF5D7-E057-45BE-8B2A-7D1F19A72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E2B9F-1190-4F74-9801-ED7E98822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99801-9DD0-4DD5-8B3F-333BAF17F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9E5FC-ED10-4122-8C4F-5B04D8B91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64ACF-F763-4604-B025-77095F0C0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C19C5-59D4-4DBC-88B3-A804380F0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32F3B-E6F3-498F-B267-766608F09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7155E-DFE5-4271-89E8-CC9D5C998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EDD06-3473-418A-AA83-044D6653445F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3ae5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62160" y="1447560"/>
            <a:ext cx="4647960" cy="2438280"/>
          </a:xfrm>
          <a:prstGeom prst="rect">
            <a:avLst/>
          </a:prstGeom>
          <a:noFill/>
          <a:ln w="28440">
            <a:solidFill>
              <a:srgbClr val="cc33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ботаю учителем в ГБОУ «Центр образования города Гудермес» с 2016 года.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разование высшее.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2015 году закончил Чеченский Государственный Университет. Общий стаж моей педагогической деятельности 7 лет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Rectangle 7"/>
          <p:cNvSpPr/>
          <p:nvPr/>
        </p:nvSpPr>
        <p:spPr>
          <a:xfrm>
            <a:off x="228600" y="304920"/>
            <a:ext cx="8458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з опыта педагогической работы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Аюбова Мусхаба Алиевич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Rectangle 8"/>
          <p:cNvSpPr/>
          <p:nvPr/>
        </p:nvSpPr>
        <p:spPr>
          <a:xfrm>
            <a:off x="3962520" y="4114800"/>
            <a:ext cx="4647960" cy="2286000"/>
          </a:xfrm>
          <a:prstGeom prst="rect">
            <a:avLst/>
          </a:prstGeom>
          <a:noFill/>
          <a:ln w="255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етодическая тема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ндивидуальный подход на уроках физической культур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" name="Picture 10" descr="C:\Users\Professional\Downloads\4a8495ca-c424-4a8b-8f4f-35ab5005a32b.JPG"/>
          <p:cNvPicPr/>
          <p:nvPr/>
        </p:nvPicPr>
        <p:blipFill>
          <a:blip r:embed="rId1"/>
          <a:stretch/>
        </p:blipFill>
        <p:spPr>
          <a:xfrm>
            <a:off x="228600" y="1600200"/>
            <a:ext cx="362124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3ae5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266720" y="1752480"/>
            <a:ext cx="449604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Rectangle 4"/>
          <p:cNvSpPr/>
          <p:nvPr/>
        </p:nvSpPr>
        <p:spPr>
          <a:xfrm>
            <a:off x="228600" y="304920"/>
            <a:ext cx="8458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з опыта педагогической работы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AutoShape 7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AutoShape 9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Picture 16" descr="C:\Users\Professional\Downloads\IMG_0820.JPG"/>
          <p:cNvPicPr/>
          <p:nvPr/>
        </p:nvPicPr>
        <p:blipFill>
          <a:blip r:embed="rId1"/>
          <a:srcRect l="10639" t="11428" r="19148" b="25717"/>
          <a:stretch/>
        </p:blipFill>
        <p:spPr>
          <a:xfrm>
            <a:off x="393840" y="1776240"/>
            <a:ext cx="5410080" cy="360684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5"/>
          <p:cNvSpPr/>
          <p:nvPr/>
        </p:nvSpPr>
        <p:spPr>
          <a:xfrm>
            <a:off x="6039000" y="1117440"/>
            <a:ext cx="2705040" cy="5283360"/>
          </a:xfrm>
          <a:prstGeom prst="rect">
            <a:avLst/>
          </a:prstGeom>
          <a:noFill/>
          <a:ln w="255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cc3300"/>
                </a:solidFill>
                <a:uFillTx/>
                <a:latin typeface="Arial"/>
              </a:rPr>
              <a:t>Актуальность и</a:t>
            </a:r>
            <a:br>
              <a:rPr sz="2000"/>
            </a:br>
            <a:r>
              <a:rPr b="1" lang="ru-RU" sz="2000" spc="-1" strike="noStrike" u="sng">
                <a:solidFill>
                  <a:srgbClr val="cc3300"/>
                </a:solidFill>
                <a:uFillTx/>
                <a:latin typeface="Arial"/>
              </a:rPr>
              <a:t> Практическая значимость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данной проблемы заключается в том, чтобы  научить своих учеников самостоятельно приобретать знания, быть востребованным и успешны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3ae5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3"/>
          <p:cNvSpPr/>
          <p:nvPr/>
        </p:nvSpPr>
        <p:spPr>
          <a:xfrm>
            <a:off x="228600" y="304920"/>
            <a:ext cx="8458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з опыта педагогической работы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Rectangle 4"/>
          <p:cNvSpPr/>
          <p:nvPr/>
        </p:nvSpPr>
        <p:spPr>
          <a:xfrm>
            <a:off x="4959360" y="3629160"/>
            <a:ext cx="3841920" cy="2619360"/>
          </a:xfrm>
          <a:prstGeom prst="rect">
            <a:avLst/>
          </a:prstGeom>
          <a:noFill/>
          <a:ln w="255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овременных образовательных технологий очень много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своей практике я чаще всего использую исследовательские, здоровьесберегающие технологи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AutoShape 6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9"/>
          <p:cNvSpPr/>
          <p:nvPr/>
        </p:nvSpPr>
        <p:spPr>
          <a:xfrm>
            <a:off x="4959360" y="1600200"/>
            <a:ext cx="3841920" cy="1828800"/>
          </a:xfrm>
          <a:prstGeom prst="rect">
            <a:avLst/>
          </a:prstGeom>
          <a:noFill/>
          <a:ln w="255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Моя задача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– создать творческую атмосферу, помочь учащимся самореализоваться  и помочь сохранить здоровье школьник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Picture 10" descr="C:\Users\Professional\Downloads\IMG_0817.JPG"/>
          <p:cNvPicPr/>
          <p:nvPr/>
        </p:nvPicPr>
        <p:blipFill>
          <a:blip r:embed="rId1"/>
          <a:srcRect l="17569" t="22535" r="12162" b="5370"/>
          <a:stretch/>
        </p:blipFill>
        <p:spPr>
          <a:xfrm>
            <a:off x="200160" y="1981080"/>
            <a:ext cx="4527360" cy="36576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3ae5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2"/>
          <p:cNvSpPr/>
          <p:nvPr/>
        </p:nvSpPr>
        <p:spPr>
          <a:xfrm>
            <a:off x="228600" y="304920"/>
            <a:ext cx="8458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з опыта педагогической работы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5105520" y="1752480"/>
            <a:ext cx="3886200" cy="4321440"/>
          </a:xfrm>
          <a:prstGeom prst="rect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Здоровьесберегающие технологи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«Забота о здоровье – это важнейший труд воспитателя. От жизнедеятельности, бодрости детей зависит их духовная жизнь, мировоззрение, умственное развитие, прочность знаний, вера в свои силы…» В.А.Сухомлинский 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000"/>
            </a:b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AutoShape 4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Picture 8" descr="Картинки по запросу здоровьесберегающие технологии  позволяют"/>
          <p:cNvPicPr/>
          <p:nvPr/>
        </p:nvPicPr>
        <p:blipFill>
          <a:blip r:embed="rId1"/>
          <a:stretch/>
        </p:blipFill>
        <p:spPr>
          <a:xfrm>
            <a:off x="304920" y="1752480"/>
            <a:ext cx="4600440" cy="43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3ae5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2"/>
          <p:cNvSpPr/>
          <p:nvPr/>
        </p:nvSpPr>
        <p:spPr>
          <a:xfrm>
            <a:off x="287280" y="136440"/>
            <a:ext cx="8458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3300"/>
                </a:solidFill>
                <a:latin typeface="Arial"/>
              </a:rPr>
              <a:t>Результаты применения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AutoShape 4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" name="Picture 11" descr="C:\Users\Professional\Downloads\IMG_0850.JPG"/>
          <p:cNvPicPr/>
          <p:nvPr/>
        </p:nvPicPr>
        <p:blipFill>
          <a:blip r:embed="rId1"/>
          <a:stretch/>
        </p:blipFill>
        <p:spPr>
          <a:xfrm>
            <a:off x="76320" y="866880"/>
            <a:ext cx="8928000" cy="58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3ae5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AutoShape 2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AutoShape 3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" name="Picture 9" descr="C:\Users\Professional\Downloads\IMG_0849.JPG"/>
          <p:cNvPicPr/>
          <p:nvPr/>
        </p:nvPicPr>
        <p:blipFill>
          <a:blip r:embed="rId1"/>
          <a:stretch/>
        </p:blipFill>
        <p:spPr>
          <a:xfrm>
            <a:off x="380880" y="28440"/>
            <a:ext cx="8534520" cy="67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Picture 3" descr="C:\Users\Professional\Downloads\IMG_0848.JPG"/>
          <p:cNvPicPr/>
          <p:nvPr/>
        </p:nvPicPr>
        <p:blipFill>
          <a:blip r:embed="rId1"/>
          <a:stretch/>
        </p:blipFill>
        <p:spPr>
          <a:xfrm>
            <a:off x="228600" y="192240"/>
            <a:ext cx="8740800" cy="643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Bahnschrift SemiBold Condensed"/>
              </a:rPr>
              <a:t>Дорогу осилит идущий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Picture 2" descr="C:\Users\Professional\Downloads\IMG_0825.JPG"/>
          <p:cNvPicPr/>
          <p:nvPr/>
        </p:nvPicPr>
        <p:blipFill>
          <a:blip r:embed="rId1"/>
          <a:srcRect l="8362" t="0" r="9374" b="12658"/>
          <a:stretch/>
        </p:blipFill>
        <p:spPr>
          <a:xfrm>
            <a:off x="1143000" y="762120"/>
            <a:ext cx="6858000" cy="58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3-14T17:31:16Z</dcterms:created>
  <dc:creator>ольга</dc:creator>
  <dc:description/>
  <dc:language>en-US</dc:language>
  <cp:lastModifiedBy>User Windows</cp:lastModifiedBy>
  <dcterms:modified xsi:type="dcterms:W3CDTF">2023-05-18T10:12:12Z</dcterms:modified>
  <cp:revision>2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