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D86-FEB3-46D8-899A-39BF4588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946-EAE7-4566-8364-B24EDC60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BCC-0BFE-45C2-B7DE-20D41E6A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2C7-AFE1-447F-A0F6-6FE522BB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A8C-0FE5-4529-8254-6B4204B1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031-9F08-4541-88D9-B13163D8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628-6E5C-49DE-A16F-BB0C54FB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A42-BAB4-4C8D-A54A-F2B0A71A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90E-F23E-4982-8FC7-8799F9B1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0A3-25E7-47FF-8F36-65F87777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466-6022-4D01-8112-9E47C63F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078-7A78-42B0-8236-464B6B77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99CE-E266-46F5-A18E-A49A20C09C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447560"/>
            <a:ext cx="4647960" cy="24382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ю учителем в ГБОУ «Центр образования города Гудермес» с 2016 год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е высшее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5 году закончил Чеченский Государственный Университет. Общий стаж моей педагогической деятельности 7 лет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2860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пыта педагогической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юбова Мусхаба Алиевич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3962520" y="4114800"/>
            <a:ext cx="4647960" cy="228600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ческая тем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уальный подход на уроках физическо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10" descr="C:\Users\Professional\Downloads\4a8495ca-c424-4a8b-8f4f-35ab5005a32b.JPG"/>
          <p:cNvPicPr/>
          <p:nvPr/>
        </p:nvPicPr>
        <p:blipFill>
          <a:blip r:embed="rId1"/>
          <a:stretch/>
        </p:blipFill>
        <p:spPr>
          <a:xfrm>
            <a:off x="228600" y="1600200"/>
            <a:ext cx="3621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66720" y="1752480"/>
            <a:ext cx="44960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860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пыта педагогической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6" descr="C:\Users\Professional\Downloads\IMG_0820.JPG"/>
          <p:cNvPicPr/>
          <p:nvPr/>
        </p:nvPicPr>
        <p:blipFill>
          <a:blip r:embed="rId1"/>
          <a:srcRect l="10639" t="11428" r="19148" b="25717"/>
          <a:stretch/>
        </p:blipFill>
        <p:spPr>
          <a:xfrm>
            <a:off x="393840" y="1776240"/>
            <a:ext cx="5410080" cy="360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39000" y="1117440"/>
            <a:ext cx="2705040" cy="528336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Актуальность и</a:t>
            </a:r>
            <a:br>
              <a:rPr sz="2000"/>
            </a:b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Практическая значимость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данной проблемы заключается в том, чтобы  научить своих учеников самостоятельно приобретать знания, быть востребованным и успеш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22860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пыта педагогической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959360" y="3629160"/>
            <a:ext cx="3841920" cy="261936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ременных образовательных технологий очень мног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воей практике я чаще всего использую исследовательские, здоровьесберегающие техн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4959360" y="1600200"/>
            <a:ext cx="3841920" cy="182880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я задач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оздать творческую атмосферу, помочь учащимся самореализоваться  и помочь сохранить здоровье школьн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0" descr="C:\Users\Professional\Downloads\IMG_0817.JPG"/>
          <p:cNvPicPr/>
          <p:nvPr/>
        </p:nvPicPr>
        <p:blipFill>
          <a:blip r:embed="rId1"/>
          <a:srcRect l="17569" t="22535" r="12162" b="5370"/>
          <a:stretch/>
        </p:blipFill>
        <p:spPr>
          <a:xfrm>
            <a:off x="200160" y="1981080"/>
            <a:ext cx="452736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28600" y="3049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пыта педагогической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105520" y="1752480"/>
            <a:ext cx="3886200" cy="4321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доровьесберегающие технолог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 В.А.Сухомлинский 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8" descr="Картинки по запросу здоровьесберегающие технологии  позволяют"/>
          <p:cNvPicPr/>
          <p:nvPr/>
        </p:nvPicPr>
        <p:blipFill>
          <a:blip r:embed="rId1"/>
          <a:stretch/>
        </p:blipFill>
        <p:spPr>
          <a:xfrm>
            <a:off x="304920" y="1752480"/>
            <a:ext cx="4600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87280" y="1364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Результаты примен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11" descr="C:\Users\Professional\Downloads\IMG_0850.JPG"/>
          <p:cNvPicPr/>
          <p:nvPr/>
        </p:nvPicPr>
        <p:blipFill>
          <a:blip r:embed="rId1"/>
          <a:stretch/>
        </p:blipFill>
        <p:spPr>
          <a:xfrm>
            <a:off x="76320" y="866880"/>
            <a:ext cx="8928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3ae5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C:\Users\Professional\Downloads\IMG_0849.JPG"/>
          <p:cNvPicPr/>
          <p:nvPr/>
        </p:nvPicPr>
        <p:blipFill>
          <a:blip r:embed="rId1"/>
          <a:stretch/>
        </p:blipFill>
        <p:spPr>
          <a:xfrm>
            <a:off x="380880" y="28440"/>
            <a:ext cx="853452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3" descr="C:\Users\Professional\Downloads\IMG_0848.JPG"/>
          <p:cNvPicPr/>
          <p:nvPr/>
        </p:nvPicPr>
        <p:blipFill>
          <a:blip r:embed="rId1"/>
          <a:stretch/>
        </p:blipFill>
        <p:spPr>
          <a:xfrm>
            <a:off x="228600" y="192240"/>
            <a:ext cx="87408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Bahnschrift SemiBold Condensed"/>
              </a:rPr>
              <a:t>Дорогу осилит идущи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C:\Users\Professional\Downloads\IMG_0825.JPG"/>
          <p:cNvPicPr/>
          <p:nvPr/>
        </p:nvPicPr>
        <p:blipFill>
          <a:blip r:embed="rId1"/>
          <a:srcRect l="8362" t="0" r="9374" b="12658"/>
          <a:stretch/>
        </p:blipFill>
        <p:spPr>
          <a:xfrm>
            <a:off x="1143000" y="762120"/>
            <a:ext cx="6858000" cy="58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4T17:31:16Z</dcterms:created>
  <dc:creator>ольга</dc:creator>
  <dc:description/>
  <dc:language>en-US</dc:language>
  <cp:lastModifiedBy>User Windows</cp:lastModifiedBy>
  <dcterms:modified xsi:type="dcterms:W3CDTF">2023-05-18T10:12:1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